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7F5C-DCB5-43D1-A26E-C5985DCE1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5483-2B9A-41AE-B3FB-BF7DCE4EE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917-EF12-43E9-9F16-EEA21349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553-D64D-476C-8B68-E08333ED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2C0-CEAF-4BBC-9940-7AAD22FD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D33-1480-4104-886A-21822BC3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174-7AEE-4E19-AE53-8BED537B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FF1-C8DE-4598-8CA4-5C0FE9FE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E8F-5EA6-4FBC-9405-D9F4A09D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F89-1039-47A1-BABE-E227E843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0E9-5F06-4868-8CD0-87209A7F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570-C9F5-4286-8C3C-7FD027C6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BEC-0387-4083-B7F0-F0F3B5E1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6EA-4F4F-4EA6-8E38-3D433FAF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D377-F715-41C4-B7BB-985E5EC8A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4 A central place is designed to max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litic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eligiou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gricultural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ccess to raw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Access to 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5 According to the gravity model, the optimal location for a busine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dependent of distance from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irectly related to the number of people in 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ext to businesses offering simila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the 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djacent to large government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5 According to the gravity model, the optimal location for a busine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dependent of distance from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ly related to the number of people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ext to businesses offering simila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the 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djacent to large government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6 Central place theory uses a nesting serie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riang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qu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entag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exag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Octag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6 Central place theory uses a nesting serie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riang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qu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entag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Hexag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Octag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7 The city-state model is best exemplified by an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g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7 The city-state model is best exemplified by an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g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8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world-c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s Ang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n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ok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8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world-c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s Ang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Den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ok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2_14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1 In which region do services contribut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ion to the econo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9 CBD retail services are least likely to have the following characteris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marily rural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igh thresh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igh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ervices for office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 are typical characteristic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D retai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9 CBD retail services are least likely to have the following characteris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Primarily rural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igh thresh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igh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ervices for office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 are typical characteristic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D retai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10 In the United States, services are predominately moving to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 scenic rural areas far from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 the 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ispersed evenly throughout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malls near subur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ith the lowest labo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10 In the United States, services are predominately moving to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 scenic rural areas far from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 the 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ispersed evenly throughout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In malls near suburb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ith the lowest labo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1 In which region do services contribut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ion to the econo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2_01"/>
          <p:cNvPicPr/>
          <p:nvPr/>
        </p:nvPicPr>
        <p:blipFill>
          <a:blip r:embed="rId1"/>
          <a:stretch/>
        </p:blipFill>
        <p:spPr>
          <a:xfrm>
            <a:off x="685800" y="520560"/>
            <a:ext cx="79246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2 In contrast to the United States, most people in the world liv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mall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rge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lustered 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persed 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oderate-sized t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2 In contrast to the United States, most people in the world liv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mall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rge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Clustered 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persed 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oderate-sized t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3 The enclosure movement in Great Britain was carried out primarily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dvance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crease agricultural effici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Quell labor un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quash the revolutionary spirit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sa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ncourage rural citizens to move to cluste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3 The enclosure movement in Great Britain was carried out primarily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dvance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Increase agricultural effici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Quell labor un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quash the revolutionary spirit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sa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ncourage rural citizens to move to cluste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4 A central place is designed to max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litic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eligiou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gricultural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ccess to raw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ccess to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hartma</cp:lastModifiedBy>
  <dcterms:modified xsi:type="dcterms:W3CDTF">2012-05-10T21:55:33Z</dcterms:modified>
  <cp:revision>82</cp:revision>
  <dc:subject/>
  <dc:title>CRS Chapter 4</dc:title>
</cp:coreProperties>
</file>